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02F-734A-424F-81B5-9F5731AC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FC8-5348-43B8-83A1-BD32526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BA5-FFB7-4E89-A2C2-976A4B4D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DE8-5B48-4934-AF57-371E64D0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953-7A74-4A03-A7FD-63C61603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8AC-7832-452F-A26B-E1B86FC1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6D1-658C-41A7-8277-E15DD03F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81E-7DBC-4CEB-BC92-2D38816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354-D8F0-4934-BEF5-E499EF3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32D-D0A7-47B1-AD5F-84A9D51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923-F8FC-44D4-BFA3-CF0EF1E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9E8-75AA-4576-98E3-A626E3C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8722-1FFF-4F22-992F-CA27CBE58A2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98520" y="1557360"/>
            <a:ext cx="8602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Relatório de Balanço do Programa de Revisão dos Benefícios por Incapacidade - PRB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28/09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4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706.10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Gráfico 1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535.07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após conversão em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enviad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457.66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artas de convocação aos beneficiários, s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Cartas Envi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am realiza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8.29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perícias, das qu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.807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foram em 2016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05.48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m 20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Perícias Re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6" descr=""/>
          <p:cNvPicPr/>
          <p:nvPr/>
        </p:nvPicPr>
        <p:blipFill>
          <a:blip r:embed="rId3"/>
          <a:stretch/>
        </p:blipFill>
        <p:spPr>
          <a:xfrm>
            <a:off x="452520" y="2924280"/>
            <a:ext cx="8238960" cy="34369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"/>
          <p:cNvSpPr/>
          <p:nvPr/>
        </p:nvSpPr>
        <p:spPr>
          <a:xfrm>
            <a:off x="6373800" y="3305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4"/>
          <p:cNvSpPr/>
          <p:nvPr/>
        </p:nvSpPr>
        <p:spPr>
          <a:xfrm>
            <a:off x="4067280" y="37260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0"/>
          <p:cNvSpPr/>
          <p:nvPr/>
        </p:nvSpPr>
        <p:spPr>
          <a:xfrm>
            <a:off x="3687840" y="42084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11"/>
          <p:cNvSpPr/>
          <p:nvPr/>
        </p:nvSpPr>
        <p:spPr>
          <a:xfrm>
            <a:off x="3419640" y="463068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2"/>
          <p:cNvSpPr/>
          <p:nvPr/>
        </p:nvSpPr>
        <p:spPr>
          <a:xfrm>
            <a:off x="3403440" y="514656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3"/>
          <p:cNvSpPr/>
          <p:nvPr/>
        </p:nvSpPr>
        <p:spPr>
          <a:xfrm>
            <a:off x="3440160" y="564840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2627280" y="6021360"/>
            <a:ext cx="4321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15"/>
          <p:cNvSpPr/>
          <p:nvPr/>
        </p:nvSpPr>
        <p:spPr>
          <a:xfrm>
            <a:off x="6775560" y="3073320"/>
            <a:ext cx="20034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cessa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2.83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benefícios, dos qu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82.52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foram por conclusão pericial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.30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ão compareceram à perícia méd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Benefícios cess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Gráfico 7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conomia anual estimada Bras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2.993.509.055,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000" spc="-1" strike="noStrike">
                <a:solidFill>
                  <a:srgbClr val="191966"/>
                </a:solidFill>
                <a:latin typeface="Arial"/>
                <a:ea typeface="Arial"/>
              </a:rPr>
              <a:t>Detalh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Economia Esti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03200" y="3645000"/>
          <a:ext cx="8345520" cy="2736720"/>
        </p:xfrm>
        <a:graphic>
          <a:graphicData uri="http://schemas.openxmlformats.org/drawingml/2006/table">
            <a:tbl>
              <a:tblPr/>
              <a:tblGrid>
                <a:gridCol w="3513240"/>
                <a:gridCol w="1404720"/>
                <a:gridCol w="1711440"/>
                <a:gridCol w="1716120"/>
              </a:tblGrid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TOTAL (Até 28/09/2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e Benefí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por não comparec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8.851.98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75.075.79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na realização da perí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8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4.185.063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.044.405.81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Futura (média 90 di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5.188.646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27.452.39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uxílio-Acid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1.417.447,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.426.81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57.075.047,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41.975.618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 + 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  2.298.165,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9.876.151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bilitação Profiss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ESTIMADA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0.269.927,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993.509.055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PERÍCIAS REALIZ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1174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Arial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EQUIPE PRB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DIR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NSS</cp:lastModifiedBy>
  <dcterms:modified xsi:type="dcterms:W3CDTF">2017-09-28T13:25:46Z</dcterms:modified>
  <cp:revision>12</cp:revision>
  <dc:subject/>
  <dc:title>Slide 1</dc:title>
</cp:coreProperties>
</file>